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280-E73F-442A-91EB-7C28A1F5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57B-EF34-496B-8BDD-1021E81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5DB-66E1-4CE9-9B84-83A62C62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C61-F443-4710-AA9A-7BC7D67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E81-7B22-4F3A-A75C-6192ADE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661-C29F-49D3-BF52-AA2D95A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760-0548-4F7C-8E65-F91AA836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205-A0E7-414C-A310-A58FEB9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FF3-7D15-4E04-9346-F35DAEDD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2CB-96DA-45C4-950F-B94B161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45C-E3F8-4172-BF6B-05B62FB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C62-887B-4FCF-86C5-E0A03412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C59-84E3-431F-8945-F20704F6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Process Mode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cca Hutch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867280" y="14479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with number of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, remarkably independent of number of voxels.  (256 in same r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579132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D52-D341-4E09-9A71-D923C40FD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evious experi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6172200" cy="4946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320040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078-F47C-4E79-8C9D-4CEA665C09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current experiment and interpret results – design new experiments to answer questions that com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Kullback-Leibler divergence to measure the difference between the learned and true emission dis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is experiment on some identifiable synthetic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6FA-3ADA-41C0-A24A-5C6C31A77A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oxels can we han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raining examples do we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noise can we tole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factors contributing to training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nthetic data to approach these questions so we know ground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experiment – intended to raise mor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0B7-0A2E-4724-BD9F-10AFD3E75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6172200" cy="258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59040" y="156384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447920" cy="112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2204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3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9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17524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respo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0" y="32004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657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640" y="411480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under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57200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8280" y="28558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4160" y="32767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2760" y="37339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8B4-C259-401C-BE75-20692157C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vo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1, 2, 4, 8, 16, …, 8192, 1638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noise added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.1, 0.2154, 0.4642,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rain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, 10, 20, 40, 8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588-1529-4D2B-805E-96611376B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accuracy for process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accuracy for star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ability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 between learned model and tru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fitting: normalized loglikelihood on training set vs. tes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g in current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DEA-44E4-4DE9-BEF4-B528150B3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: Process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s as noise is added to the data, but this effect is lessened with more vo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49568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313-5259-4F92-BD8F-E9026A01F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e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100160"/>
            <a:ext cx="7086600" cy="575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4C8-34D2-4018-BCFA-2B469ACA1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08F-0430-446D-9031-BE7C6671D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d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as size of training set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ith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A30-A36F-4E3F-8F26-794FE54A2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5:05:26Z</dcterms:created>
  <dc:creator>rah</dc:creator>
  <dc:description/>
  <dc:language>en-US</dc:language>
  <cp:lastModifiedBy>rah</cp:lastModifiedBy>
  <dcterms:modified xsi:type="dcterms:W3CDTF">2005-04-26T13:25:15Z</dcterms:modified>
  <cp:revision>7</cp:revision>
  <dc:subject/>
  <dc:title>Hidden Process Models: Scaling Properties</dc:title>
</cp:coreProperties>
</file>